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F934-DEFA-4C16-AA4C-A77BC64DC95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omic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om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particles found in the atomic nucleus. Protons were discovered by Ernest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re positively charged particles found in the atomic nucleus. Protons were discovered by Ernest Rutherfo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uncharged particles found in the atomic nucleus. Neutrons were discovered by James Chadwick in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s are uncharged particles found in the atomic nucleus. Neutrons were discovered by James Chadwick in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negatively charged particles that surround the atom's nucleus. Electrons were discovered by J. J. Thomson in 18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determine properties of the atom. Chemical reactions involve sharing or exchanging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egatively charged particles that surround the atom's nucleus. Electrons were discovered by J. J. Thomson in 18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determine properties of the atom. Chemical reactions involve sharing or exchanging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is the central part of an atom. It is composed of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contains most of an atom's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discovered by Ernest Rutherford in 19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is the central part of an atom. It is composed of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contains most of an atom's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by Ernest Rutherford in 19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to be one of the basic building blocks of matter. Quarks were first discovered in experiments done in the late 1960's and early 197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family consists of Strange and Charm quarks and only exist at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family consists of Top and Bottom quarks and only exist at very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to be one of the basic building blocks of matter. Quarks were first discovered in experiments done in the late 1960's and early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amily consists of Strange and Charm quarks and only exist at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family consists of Top and Bottom quarks and only exist at very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different numbers of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hat have the same number of protons but different numbers of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ducation.jlab.org/glossary/isotop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ducation.jlab.org/glossary/isotope.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of the atom pictures the electrons moving around the nucleus in a region called an electron clou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click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gentsprep.org/Regents/physics/phys05/catomodel/cloud.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f the atom pictures the electrons moving around the nucleus in a region called an electron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click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gentsprep.org/Regents/physics/phys05/catomodel/clou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kom.co.za/nuclear_energy/fuel/fuel.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skom.co.za/nuclear_energy/fuel/fuel.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re diagrams at:  http://www.bmb.psu.edu/courses/bisci004a/chem/baseche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ore diagrams at:  http://www.bmb.psu.edu/courses/bisci004a/chem/basechem.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mb.psu.edu/courses/bisci004a/chem/atoms.jp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mb.psu.edu/courses/bisci004a/chem/atoms.jp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827BE-76D4-4A39-A7A7-DBBFE8B6E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747EC-DC66-40D7-8E06-3C6DBADE1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55EBB-9A9D-4151-AC08-07CF5534E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E42EC-8B2D-45B9-924D-02EE3ED60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61B0E-B444-4DF9-84A1-0139B641F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1D5C4-A5D2-471E-B790-F17C59F06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0E439-A5A8-4777-A5C5-2AF36DDFF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61577-ED0A-4645-BD1E-301007A0E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EF080-442F-4D5F-88B5-84B7E9315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D9EE5-6B77-4B9F-B05A-26DD4A084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0B785-0B24-46A9-AA67-5C48B05E3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8C08F-5460-4E4E-8CE9-267F3B77C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1324-D933-48C9-B268-38162CF67C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9" name="Picture 6" descr="joos1qyu[1]"/>
          <p:cNvPicPr/>
          <p:nvPr/>
        </p:nvPicPr>
        <p:blipFill>
          <a:blip r:embed="rId1"/>
          <a:stretch/>
        </p:blipFill>
        <p:spPr>
          <a:xfrm>
            <a:off x="2743200" y="2286000"/>
            <a:ext cx="3657600" cy="279864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76" name="Picture 3" descr="1"/>
          <p:cNvPicPr/>
          <p:nvPr/>
        </p:nvPicPr>
        <p:blipFill>
          <a:blip r:embed="rId1"/>
          <a:stretch/>
        </p:blipFill>
        <p:spPr>
          <a:xfrm>
            <a:off x="2286000" y="1619280"/>
            <a:ext cx="4572000" cy="448632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4"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isotope"/>
          <p:cNvPicPr/>
          <p:nvPr/>
        </p:nvPicPr>
        <p:blipFill>
          <a:blip r:embed="rId1"/>
          <a:stretch/>
        </p:blipFill>
        <p:spPr>
          <a:xfrm>
            <a:off x="1905120" y="2362320"/>
            <a:ext cx="5029200" cy="2760480"/>
          </a:xfrm>
          <a:prstGeom prst="rect">
            <a:avLst/>
          </a:prstGeom>
          <a:ln w="0">
            <a:noFill/>
          </a:ln>
        </p:spPr>
      </p:pic>
      <p:sp>
        <p:nvSpPr>
          <p:cNvPr id="109"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11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120" name="Picture 3" descr="2"/>
          <p:cNvPicPr/>
          <p:nvPr/>
        </p:nvPicPr>
        <p:blipFill>
          <a:blip r:embed="rId1"/>
          <a:stretch/>
        </p:blipFill>
        <p:spPr>
          <a:xfrm>
            <a:off x="1295280" y="1295280"/>
            <a:ext cx="6705720" cy="504504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123" name="Picture 3" descr="cloud"/>
          <p:cNvPicPr/>
          <p:nvPr/>
        </p:nvPicPr>
        <p:blipFill>
          <a:blip r:embed="rId1"/>
          <a:stretch/>
        </p:blipFill>
        <p:spPr>
          <a:xfrm>
            <a:off x="2286000" y="1523880"/>
            <a:ext cx="4759200" cy="479268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4"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9" name="Picture 4" descr="Atom"/>
          <p:cNvPicPr/>
          <p:nvPr/>
        </p:nvPicPr>
        <p:blipFill>
          <a:blip r:embed="rId1"/>
          <a:stretch/>
        </p:blipFill>
        <p:spPr>
          <a:xfrm>
            <a:off x="2525760" y="1676520"/>
            <a:ext cx="4422600" cy="4724280"/>
          </a:xfrm>
          <a:prstGeom prst="rect">
            <a:avLst/>
          </a:prstGeom>
          <a:ln w="0">
            <a:noFill/>
          </a:ln>
        </p:spPr>
      </p:pic>
      <p:sp>
        <p:nvSpPr>
          <p:cNvPr id="6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3" name="Picture 3" descr="1"/>
          <p:cNvPicPr/>
          <p:nvPr/>
        </p:nvPicPr>
        <p:blipFill>
          <a:blip r:embed="rId1"/>
          <a:stretch/>
        </p:blipFill>
        <p:spPr>
          <a:xfrm>
            <a:off x="1219320" y="1219320"/>
            <a:ext cx="6629400" cy="4767120"/>
          </a:xfrm>
          <a:prstGeom prst="rect">
            <a:avLst/>
          </a:prstGeom>
          <a:ln w="0">
            <a:noFill/>
          </a:ln>
        </p:spPr>
      </p:pic>
      <p:sp>
        <p:nvSpPr>
          <p:cNvPr id="64"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7" name="Picture 3" descr="atoms"/>
          <p:cNvPicPr/>
          <p:nvPr/>
        </p:nvPicPr>
        <p:blipFill>
          <a:blip r:embed="rId1"/>
          <a:stretch/>
        </p:blipFill>
        <p:spPr>
          <a:xfrm>
            <a:off x="1981080" y="1676520"/>
            <a:ext cx="5596200" cy="4109760"/>
          </a:xfrm>
          <a:prstGeom prst="rect">
            <a:avLst/>
          </a:prstGeom>
          <a:ln w="0">
            <a:noFill/>
          </a:ln>
        </p:spPr>
      </p:pic>
      <p:sp>
        <p:nvSpPr>
          <p:cNvPr id="68"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73" name="Picture 3" descr="atom"/>
          <p:cNvPicPr/>
          <p:nvPr/>
        </p:nvPicPr>
        <p:blipFill>
          <a:blip r:embed="rId1"/>
          <a:stretch/>
        </p:blipFill>
        <p:spPr>
          <a:xfrm>
            <a:off x="1600200" y="533520"/>
            <a:ext cx="5867280" cy="5867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LEGION</cp:lastModifiedBy>
  <dcterms:modified xsi:type="dcterms:W3CDTF">2017-01-26T09:14:22Z</dcterms:modified>
  <cp:revision>28</cp:revision>
  <dc:subject/>
  <dc:title>Atomic Structure</dc:title>
</cp:coreProperties>
</file>